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7401-7204-498D-AC8F-58B3291AC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7F8B-6EF2-438B-B431-F9CAB312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F3F642-9135-4754-9A52-CC10CD1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0CBF57-3D4C-433F-BAF4-5B6153B7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A0D36-8631-4EAC-9233-8EF8450E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984AF9-4C49-445B-B710-7A4CAF44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4CFD7-3BC0-4201-9BF0-55910383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A2626-DB17-4DE3-B92F-9E24F21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EBF48-5019-4187-B2A0-6F07B33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F9A777-5D0F-47B5-BC3F-A99ACD8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6A95F-C987-447A-8936-EB7AE61585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F8B6-4199-40C9-9447-20F9909A7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B4FD-CCDD-49D7-9356-B7026E3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23E9-7493-4CAC-B744-8715580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746C0-9017-45EE-ABAA-2F838045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E878-2CDD-4AA4-A997-BDF7E1B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3AF56-1650-4CAC-B2D3-E0C931BB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CBEC-7391-4641-BECD-21A965B7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7052-4ECB-4C13-900F-47E4309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76D3-8893-422D-B5EB-C0FD8531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2D64-C2F8-4DE4-9C26-542094D6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9CE17-083D-4B6C-BF85-E7C5BEC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3E31-A333-4574-BE1F-36E95F4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CD02-CBC1-4EB0-9B22-F3FF98695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B31A-D275-4B47-A3C4-4FF4EFEE5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26368C-552A-4C56-AE75-0FABACA2FC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161A7-87BA-4C84-919E-EFB5F61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AD714-8713-4549-8ED0-8C2D283F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5F83CA-2108-47D0-9ECF-C71D807F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D94DC-636C-4A83-B882-0377C938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50ACB-56C7-4742-B373-454E9AD6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CDA1D-9432-41BB-AE83-471FC90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C4D2BE-E88D-4A9B-A904-6C95249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59758-8A7F-405B-BCA0-416DB65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DF9D-24A8-4194-97B0-2F7DDA71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9D7F4-ECD9-426E-BAAD-6FC900C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34B5E-F744-4DBE-BDCA-D26BE48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4A06BE-0EC3-4652-8FDE-B5CC3707FB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6B0BF-D87A-4B68-A503-56F3EAA33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BB60A-03E1-4513-A0CF-216AD65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00A35-6B1E-41C3-9B29-00E45F1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C93BC-3C97-44F9-BE20-7B85F257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E11D1-F99A-4939-9595-07D5690E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AB841-1E96-4C9E-A10A-53E8930F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F0F61-66F2-4302-92E8-25D6F5C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BA42C-E6BF-40CC-AD0B-2F408BA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C1E78-55E5-4EC0-87EE-DB104BF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AB1B5-52F7-4BF6-893F-01A8BCC1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21D9D-2417-4C49-9A2F-10F852F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9B802-3B5B-4CD0-9FAF-82CC243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A06E0-3DC8-4819-845C-CC8130D00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C151-DB21-4703-A40C-C21681BEA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40684-E968-4FCE-86DA-39407D9A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0B407-DAAB-41E3-83F5-7324CF4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A60B-FBD4-400B-A498-3DD428B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9730B-238C-4849-A6F7-64AC9DDE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77FC8-603C-4F50-B545-D161C46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2D457-36AC-44DE-BC04-9AD6E0FA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D4087-7000-41F8-8F08-54486790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53B6-F909-4A26-8060-7E8AC69A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4A112-CFE9-4C6A-9B33-992EFA3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E5CF5-0A20-485D-97D9-C58D0080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E42E1-AEE7-4481-837D-187D2E5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3EAF9-A827-4D67-BA8A-4A9943A3A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7B3FE-B981-44DB-98EA-C0A5F581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3EACA-7ECD-41D1-BDE3-B680DD6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438E8-72E7-4F27-B86C-5388B878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DCB90-9693-4F3A-8E3D-8BB4EAC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8EBAA-7209-4CE3-BE0B-4A8EB6A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FE5B4-3AF7-4DBB-9DFD-01B9C82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B0495-E7EE-499F-B4FA-AF977E1C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0FFB-441A-4239-899E-34AE089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F526-B64A-43AC-9891-1F02504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D8A38-5AEF-4A43-A91C-63BBDB9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E88A-3623-4A97-BF7D-82C7F4A7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0E2D-0740-4DCB-8397-2F5E6301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F3D98-DFB2-4ABD-AE19-AA4155E0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6997-5134-4DC2-A9E1-CBCF333D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24867-3E0C-42A3-B867-8FBA84E7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C98BF-1E58-41A3-930C-1F50C565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9746-ED39-4DE8-BF69-3B165B55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BC3B-9C03-4D4C-97ED-F2D7829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2E19C-469D-4B34-8A76-75FBA260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2A4AF-C845-42AC-8F71-F42DB29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045F-E8FF-45A9-BD51-80CEB42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E974-8A35-4636-A67D-C1C5CF2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5D16-BD6A-4FC8-9F37-E0571CA4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7D7F-7035-48F1-B5F5-6982202D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A217D-1709-40E4-A427-70689034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372C3-DD3F-45CD-B697-971D9A7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FF53-0B88-40E1-B9C0-DC84485C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A2AFA-1732-4004-A9C7-D3C4E1A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A889-6C04-42B5-B9A5-AEE49837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B5A2B-5CA3-4D11-80CD-A1D44D6A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20569-1EE2-47D8-9F79-C98752F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9290-E1C8-41C1-A4FE-E21BBEF0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43372-F9CF-4A61-BBE0-701B45ED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78466-1A47-4567-AEA0-A867F09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CF65F-BD4B-4A07-9F97-AEE00CD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7F559-8886-485B-AC3B-5FD3C25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461C-3933-4B08-9359-65EBB5D3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FA4E3-FC8F-4016-9903-FFC5D88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55E66-6FF0-424E-AE98-8B481CF2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8A82E-4202-4129-B2ED-61776486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3004E-7F2A-4896-A8D9-B7AAA695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6C10C-D702-4D53-8FA6-4196CFEE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8D45B-6FAE-4DD2-BB50-3181697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828BA-808D-4C3F-BC59-9F9EE08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D5990-3B28-4CE5-8CD6-5C73719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55C0D-C8EF-47CD-A891-46F2DDE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78842-318D-492E-8C47-2A19D48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CA7C-F716-472E-9211-627ED1B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77A83-B426-4C41-B28C-B6DF980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DBECE-1940-4690-94A7-9EFBC28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CF0BE-3476-4CF0-9DD7-B47DC516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A40DB-390A-4DE0-89C4-15508623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ED756-5711-44F7-B6F4-D98A82FB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1B4ED-8E8E-49DC-B219-8D0142EA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3EAE8-E1BB-4DBC-ADCB-71603215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A09D3-BE18-455B-8AA7-AB2B46D4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144BA-3121-43E6-A851-2CB11E45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57C44-5673-47E5-9FD1-8A814BD8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61D88-F55B-49B9-86A9-73E23EC3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116C1-877D-41F8-91DC-5A48926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94D75-47E1-41D9-8A71-AFFC77E7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66972-FA51-4445-B1B9-6B02956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9BCC1-45E6-43A8-BD40-8CD6489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183C8-8C4B-476C-A214-6D4BD7C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E1745-20BB-433B-854C-C44909F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27A05-9E8B-4978-8830-0BF02E82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8487D-8C32-4A4A-A41A-38E55F93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73525-DBFB-47A1-B395-1A31B1F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EC123-01AA-45B5-B1CF-0B6E190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614A8-3E28-4F93-93AE-30FB68BD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E3E5-7733-46B7-AB85-81949AD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9A810-F25F-49CF-BCD6-EAC35D6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0D09A-4BC9-4E4D-91CE-4AF5057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42E3A-5D9F-49CC-8EF8-D112B54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96892-03DB-4C12-AE06-C086F8C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33EF8-4D66-4395-82D3-528EC60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3301E-43F3-4098-A9D3-85407F9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BE50C-3022-41CC-9571-E94E790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3EA90-6FCE-4459-9565-F9A053EA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3EB50-97A4-43D4-ACB0-A08A7C37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569F9-85DA-46D4-8686-6E01A815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55498-342F-4A3C-8EC1-1A615CA7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F835A-E634-4DAD-9AE1-1A3B014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FFB3E-29C9-40E6-8ED3-119C680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F9EF2-0AB5-4A76-AA8A-7B23CD1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CB96B-C91F-4FBE-AD32-66F7C039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0EC19-565F-46E6-93A3-1023738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4B238-25C0-4C45-93A8-EE39D69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86E61-6B92-46E6-99DA-7BCA27A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3DAE3-2099-4FE2-BA74-7A9199C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288EE-0B51-4321-95B0-B457FB79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54D3C-B9CA-46A3-BA67-AEC6BB93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9EAD5-A137-4FE4-A5D8-4C49BE73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741E1-C697-4363-8D5F-45961BA0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4B8F1-5C75-429F-B72A-32862626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031CD-630E-498C-B740-BEB030F5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106D7-4C9A-4F03-B755-A8A248B5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414BB-F8B4-4A85-9A3C-62AFDF0B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B86B1-1421-4914-BCAB-11F91B6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DA982-95CA-47D6-A41B-E15F92F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08F53-15EC-4F0D-9051-7E82984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B886E-6BB9-43BA-B0AA-90B45862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BE7D6-4A7D-4D29-9D60-150C9E9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E5E1B-F826-4BC1-AE48-65382E2B1F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C4E66-2640-40F2-8A81-9E5410B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C7687-ED22-4D34-BDBF-6FF930AC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6781E-FB0C-4424-84B2-05A6252D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4AD48-9BD3-4F18-B825-FD754561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4DD1D-2926-4C86-8ED7-67938C44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E7642-8E7D-4409-BE1E-0B07113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4FDCF-CF00-4092-8126-CC52FA39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0E4CB-7E5B-4BBD-BF71-5C938087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FC479-F6BD-4D56-8842-C9F9DDA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E88AD-F522-45F9-83A1-13A3011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E22C6-1BBF-4AAD-928A-EA0C3D6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229AE-D9F4-4618-9CC3-5ABFE5FF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5A379-641A-4966-8A0C-DE8CB1C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67AB3-AAD8-40CA-896C-E1795D8B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2157B-9C2F-4D31-9032-BC70BF4B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B80CF-7B5B-467F-97A4-F3B1F51A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F550E-3ABB-410B-AB80-1AAA8105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4C3B9-3088-4EB8-94AA-C6B56D64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AEAA3-C9DF-4E39-BEF2-F15751C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8BA8F-CD6E-4D3A-8CBE-BF9E5B9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6B2FD-37B0-43A1-A4F2-3B2DC26C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6EA63-903C-4B64-BA16-F5F2774B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3CFB3-89B7-4877-866D-1DC836F8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056E0-3322-49C3-A535-C8E0AEB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2115E-A822-44B0-AA35-12C7F66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C1318-78FB-432C-A37A-42CA192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B9C86-2190-49FA-B61B-6AB6BB4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70D67-3682-411F-8F19-B52A4754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606D6-DF5B-4C7D-AE76-2C15C320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70C69-59BB-4916-9C3E-25E19455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59055-3C48-4494-BB90-F335484F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A34FC-4E6D-46CC-B9FF-BF8B7D0A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C9AA7-0810-4658-8B48-1409D44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BFA0D-3E40-4E56-A135-FD760FA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BE64F-A9F0-43DD-8242-AFE5EAF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B7DC3-95D9-4DDC-B15B-B42157C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E9FBE-E9CD-49A1-903D-6D87C4A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03A21-A7B9-4667-A191-281E5A9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527B0-F722-4EC0-8585-50076BE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D30CE-A152-445B-B01A-F9666ABA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5F748-B7B7-48CE-BDEC-A6DDE7D9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1112C-8C55-4867-B277-3DF8713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CFA1F-90D2-4AA3-94B9-E545ED5E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1DB8-0550-43FC-8A05-F75E6E64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67089-EA9C-432B-8424-BBFD831C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32DAF-8959-4C94-851F-7D98348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D4662-AD0E-4EAC-A6C5-90B25F3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48F84-9CCB-4479-93DB-F0F5520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AE50D-D339-44A1-A224-D50C59B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A6F30-C682-47A0-8ECA-B5022DF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B1F7C-262B-46A5-B3DD-5F1331EEF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1D4E-552C-4603-BDBC-5218FEA04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063F-7E67-4EFC-8E47-267A399C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883B-D4C3-410C-9048-EB9F32B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A583-5AFA-4AC5-9FF0-E03EEE45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0967-3124-4E76-8FB0-CD3DA68C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401B-E490-4EAA-B5F5-F1A913AD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C2EA-D3F1-45F8-B28D-4F7263AF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683E-6AC2-4B47-9382-633D4E8B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696E-76B8-4A88-A1E8-A77A459C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B84F-D4F7-4FC4-9041-1877499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E21F-5B48-4D51-8DE3-018FB6F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1316-6AD6-4D99-A916-F0999EF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CDAF-A6DB-40F9-AA03-130263F48C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D9607-6C9F-474D-8A4C-49737AA8D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5C10-A456-4DD5-894A-A6395574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6E952-ABBA-4070-8D8C-D742C34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E90B3-6B75-4A85-A905-5AE2DE3A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47E80-CEB0-454A-8492-FE36DCD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8CB06-2081-4D01-9536-DEF301A2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F0583-F493-4FE8-9939-576A82E0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5C910-BB22-42F6-8A0F-CC6BA739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8DDC5-71F3-4277-8C89-A8D5542B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7E76C-1536-4503-AD2C-C2E7341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8555B-D5AA-4295-A8B3-3AB8F0E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AA17E-4D59-4756-ABA1-28C24F9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1FDB-DA54-4349-9953-87295393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CAA77-5EC0-4CBC-8D7F-784802C5C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6350B-004F-459D-A302-D0E174367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41068B-CF24-4AE5-97AE-07592E4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F538D-2222-462C-AC63-6945FEF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0ADAF-6F7A-4682-A790-34169FFC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24294-E7C1-409C-BD4B-8D2EBABC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84CEB-6E3E-4D5E-8477-6EE4B6FC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B5B8A-ABB3-4F84-B692-5C0EDE74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92ABB-88A9-4223-8EAB-9398E588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C71533-57B9-40E7-80D1-41C9F82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F3A2-E66E-4763-B02E-B3B848C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A0BF8-4C3F-4153-8EC9-F70BEB6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85F21-EB46-4904-AE8D-B509203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86C86-D356-45FB-8615-52DF7F3DD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1BFD-8633-42D8-9902-534C66D85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7C28D-CC36-4A24-A949-DB8452EB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1003-009C-4098-8FA1-F90515A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90E8-0BEA-44D7-AF35-5DE282F4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17CE-80F0-49B6-BD11-857CB48A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E722-09EC-42AD-B82C-A36270B7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102A-8B96-4DDB-9885-AE3247DA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4382-75B4-4FE8-AE1D-56B158A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D559-E490-49BD-B7FC-42A5CE2F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C8B7-BDA5-40F8-9686-52986E9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BB4B-1C27-440B-9FE5-E9F64BB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B233-D652-4366-8C5A-0207956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D3B3-3229-443F-BA97-11D2B47D5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AF646-867D-4A2C-9729-3D855D4F7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4714D-F362-46C8-9EBE-6C18AA0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F7424-D503-492B-AB20-4792D1B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D4750-8215-40DE-B6C4-6F9E813D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00FE0-A18B-44A4-921D-C2AA75ED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9198-6EAD-4DDA-A845-D0BB326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02F5F-9520-45A2-87F6-08BFAD30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4FABE-B0D0-4E80-8708-DB5738AA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B3FEC-E66A-4E30-964B-289B8E65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8C40D-831B-4D95-BBA8-5AEE41B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F0593-CD94-4DC6-9B33-C4C2768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AC910-B334-4111-8AC9-06E1554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71DD5-5032-46AF-8D61-FAE501F88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FA8445-6FA8-4A2B-85B4-CBA773D72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116AC-C54C-4311-B94E-23CC8A5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B8222-1948-4C68-8DA4-3E126F66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3327-CD5A-48CD-AF2B-A36597CE28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D3FD-C9DF-43A8-9B00-F1CA09D93E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5E4-75F7-4559-80FC-F32D3B61E2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37B-667A-422A-8659-58A1A1F0D0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8935-11FA-4280-B84D-C014CD3D49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4836-3B24-49FF-81EA-585772ECDF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FF8-C99A-4566-ACEC-72B2D79380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825-79EC-40F9-A4E1-B29B78B526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8071-BE2A-4B57-851E-38B275BDEB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E741-C3E0-4B11-AD9F-1AB32D9376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EF6-D327-450F-9DE5-C04E3CBF89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98C8-E8DA-4ACD-828E-C91474AF42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040-DACA-4A9C-96CB-814C10B708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427-1909-436B-A995-B2E19997AB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3D7-F8CD-4ABF-A763-9A1856609B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A9B1-4974-4C65-B6E4-BDE4B7FF2A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1DD5-7494-4820-AB5F-D96788896A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D86-9512-49E9-8919-128CD6AA17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99E-6D87-49F4-9B0B-2C183545EE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8D5-78B9-4692-A1BE-8CE9307D2B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B78-97F1-424D-AAFB-18A9EC7BB9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105-8A62-4BD1-8B83-C7646A0F05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8072-D9D3-4A77-9510-2785D1D6D2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26E-132E-4F0E-80D7-7BD74D0DCB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4637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922320" y="2666880"/>
            <a:ext cx="754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一 个 因 数 中 间 有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5" name="文本框 99"/>
          <p:cNvSpPr/>
          <p:nvPr/>
        </p:nvSpPr>
        <p:spPr>
          <a:xfrm>
            <a:off x="365040" y="95256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里填上“＞”“＜”或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2"/>
          <p:cNvSpPr/>
          <p:nvPr/>
        </p:nvSpPr>
        <p:spPr>
          <a:xfrm>
            <a:off x="552600" y="1795320"/>
            <a:ext cx="803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+0○0×0               5×0○5×5         102×3○300+3             800+5○800×5     306×1○306+1             407×5○504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2"/>
          <p:cNvSpPr/>
          <p:nvPr/>
        </p:nvSpPr>
        <p:spPr>
          <a:xfrm>
            <a:off x="1460520" y="2192400"/>
            <a:ext cx="7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3"/>
          <p:cNvSpPr/>
          <p:nvPr/>
        </p:nvSpPr>
        <p:spPr>
          <a:xfrm>
            <a:off x="5850000" y="22384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4"/>
          <p:cNvSpPr/>
          <p:nvPr/>
        </p:nvSpPr>
        <p:spPr>
          <a:xfrm>
            <a:off x="1688040" y="3049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6"/>
          <p:cNvSpPr/>
          <p:nvPr/>
        </p:nvSpPr>
        <p:spPr>
          <a:xfrm>
            <a:off x="6111720" y="304956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8"/>
          <p:cNvSpPr/>
          <p:nvPr/>
        </p:nvSpPr>
        <p:spPr>
          <a:xfrm>
            <a:off x="1641600" y="392112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9"/>
          <p:cNvSpPr/>
          <p:nvPr/>
        </p:nvSpPr>
        <p:spPr>
          <a:xfrm>
            <a:off x="6339240" y="392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4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5" name="文本框 99"/>
          <p:cNvSpPr/>
          <p:nvPr/>
        </p:nvSpPr>
        <p:spPr>
          <a:xfrm>
            <a:off x="279360" y="831960"/>
            <a:ext cx="832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动物园里的一头大象每天要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食物，饲养员一周要为它准备多少千克的食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2"/>
          <p:cNvSpPr/>
          <p:nvPr/>
        </p:nvSpPr>
        <p:spPr>
          <a:xfrm>
            <a:off x="1627200" y="221472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308×7=2156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3"/>
          <p:cNvSpPr/>
          <p:nvPr/>
        </p:nvSpPr>
        <p:spPr>
          <a:xfrm>
            <a:off x="1022400" y="3097080"/>
            <a:ext cx="70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答：饲养员一周要为它准备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2156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千克粮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6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6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0" name="文本框 99"/>
          <p:cNvSpPr/>
          <p:nvPr/>
        </p:nvSpPr>
        <p:spPr>
          <a:xfrm>
            <a:off x="279360" y="996840"/>
            <a:ext cx="8242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一条背带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一件外套的价钱是这条背带裤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买这套衣服共需多少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2"/>
          <p:cNvSpPr/>
          <p:nvPr/>
        </p:nvSpPr>
        <p:spPr>
          <a:xfrm>
            <a:off x="1627200" y="221472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+105×3=420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3"/>
          <p:cNvSpPr/>
          <p:nvPr/>
        </p:nvSpPr>
        <p:spPr>
          <a:xfrm>
            <a:off x="752400" y="3146400"/>
            <a:ext cx="50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答：买这套衣服共需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420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0" name="TextBox 2"/>
          <p:cNvSpPr/>
          <p:nvPr/>
        </p:nvSpPr>
        <p:spPr>
          <a:xfrm>
            <a:off x="1739880" y="1558800"/>
            <a:ext cx="1974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24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4656240" y="1558800"/>
            <a:ext cx="1976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068480" y="4222800"/>
            <a:ext cx="72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谁愿意用竖式计算这两道题呢？其他同学在练习本上完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1079640" y="4654440"/>
            <a:ext cx="71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说一说你是怎样进行竖式计算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15" descr="u6jx06_2_02"/>
          <p:cNvPicPr/>
          <p:nvPr/>
        </p:nvPicPr>
        <p:blipFill>
          <a:blip r:embed="rId8"/>
          <a:stretch/>
        </p:blipFill>
        <p:spPr>
          <a:xfrm>
            <a:off x="3059280" y="1695600"/>
            <a:ext cx="1288800" cy="3603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6" descr="u6jx06_2_01"/>
          <p:cNvPicPr/>
          <p:nvPr/>
        </p:nvPicPr>
        <p:blipFill>
          <a:blip r:embed="rId9"/>
          <a:stretch/>
        </p:blipFill>
        <p:spPr>
          <a:xfrm>
            <a:off x="1576440" y="2197080"/>
            <a:ext cx="2098800" cy="17985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7" descr="u6jx06_2_03"/>
          <p:cNvPicPr/>
          <p:nvPr/>
        </p:nvPicPr>
        <p:blipFill>
          <a:blip r:embed="rId10"/>
          <a:stretch/>
        </p:blipFill>
        <p:spPr>
          <a:xfrm>
            <a:off x="4303800" y="2135160"/>
            <a:ext cx="2098440" cy="1798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8" descr="u6jx06_2_04"/>
          <p:cNvPicPr/>
          <p:nvPr/>
        </p:nvPicPr>
        <p:blipFill>
          <a:blip r:embed="rId11"/>
          <a:stretch/>
        </p:blipFill>
        <p:spPr>
          <a:xfrm>
            <a:off x="5946840" y="1682640"/>
            <a:ext cx="1284120" cy="358920"/>
          </a:xfrm>
          <a:prstGeom prst="rect">
            <a:avLst/>
          </a:prstGeom>
          <a:ln w="0">
            <a:noFill/>
          </a:ln>
        </p:spPr>
      </p:pic>
      <p:sp>
        <p:nvSpPr>
          <p:cNvPr id="1018" name="TextBox 1"/>
          <p:cNvSpPr/>
          <p:nvPr/>
        </p:nvSpPr>
        <p:spPr>
          <a:xfrm>
            <a:off x="539640" y="900000"/>
            <a:ext cx="547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竖式计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0" name="组合 3"/>
          <p:cNvGrpSpPr/>
          <p:nvPr/>
        </p:nvGrpSpPr>
        <p:grpSpPr>
          <a:xfrm>
            <a:off x="1486080" y="777960"/>
            <a:ext cx="6629040" cy="1501560"/>
            <a:chOff x="1486080" y="777960"/>
            <a:chExt cx="6629040" cy="1501560"/>
          </a:xfrm>
        </p:grpSpPr>
        <p:sp>
          <p:nvSpPr>
            <p:cNvPr id="1031" name="矩形 8"/>
            <p:cNvSpPr/>
            <p:nvPr/>
          </p:nvSpPr>
          <p:spPr>
            <a:xfrm>
              <a:off x="1736280" y="777960"/>
              <a:ext cx="4374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Picture 2" descr="D:\我的文档-桌面-收藏夹\桌面\1774505_110708173000_2副本.jpg"/>
            <p:cNvPicPr/>
            <p:nvPr/>
          </p:nvPicPr>
          <p:blipFill>
            <a:blip r:embed="rId8"/>
            <a:stretch/>
          </p:blipFill>
          <p:spPr>
            <a:xfrm>
              <a:off x="1548000" y="884880"/>
              <a:ext cx="187632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2" descr="D:\我的文档-桌面-收藏夹\桌面\1774505_110708173000_2副本.jpg"/>
            <p:cNvPicPr/>
            <p:nvPr/>
          </p:nvPicPr>
          <p:blipFill>
            <a:blip r:embed="rId9"/>
            <a:stretch/>
          </p:blipFill>
          <p:spPr>
            <a:xfrm>
              <a:off x="3299400" y="831600"/>
              <a:ext cx="193860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2" descr="D:\我的文档-桌面-收藏夹\桌面\1774505_110708173000_2副本.jpg"/>
            <p:cNvPicPr/>
            <p:nvPr/>
          </p:nvPicPr>
          <p:blipFill>
            <a:blip r:embed="rId10"/>
            <a:stretch/>
          </p:blipFill>
          <p:spPr>
            <a:xfrm>
              <a:off x="5175720" y="884880"/>
              <a:ext cx="93780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2" descr="D:\我的文档-桌面-收藏夹\桌面\1774505_110708173000_2副本.jpg"/>
            <p:cNvPicPr/>
            <p:nvPr/>
          </p:nvPicPr>
          <p:blipFill>
            <a:blip r:embed="rId11"/>
            <a:stretch/>
          </p:blipFill>
          <p:spPr>
            <a:xfrm>
              <a:off x="5988960" y="831600"/>
              <a:ext cx="212616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2" descr="D:\我的文档-桌面-收藏夹\桌面\1.png"/>
            <p:cNvPicPr/>
            <p:nvPr/>
          </p:nvPicPr>
          <p:blipFill>
            <a:blip r:embed="rId12"/>
            <a:stretch/>
          </p:blipFill>
          <p:spPr>
            <a:xfrm>
              <a:off x="148608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2" descr="D:\我的文档-桌面-收藏夹\桌面\1.png"/>
            <p:cNvPicPr/>
            <p:nvPr/>
          </p:nvPicPr>
          <p:blipFill>
            <a:blip r:embed="rId13"/>
            <a:stretch/>
          </p:blipFill>
          <p:spPr>
            <a:xfrm>
              <a:off x="236160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2" descr="D:\我的文档-桌面-收藏夹\桌面\1.png"/>
            <p:cNvPicPr/>
            <p:nvPr/>
          </p:nvPicPr>
          <p:blipFill>
            <a:blip r:embed="rId14"/>
            <a:stretch/>
          </p:blipFill>
          <p:spPr>
            <a:xfrm>
              <a:off x="329940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2" descr="D:\我的文档-桌面-收藏夹\桌面\1.png"/>
            <p:cNvPicPr/>
            <p:nvPr/>
          </p:nvPicPr>
          <p:blipFill>
            <a:blip r:embed="rId15"/>
            <a:stretch/>
          </p:blipFill>
          <p:spPr>
            <a:xfrm>
              <a:off x="423792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2" descr="D:\我的文档-桌面-收藏夹\桌面\1.png"/>
            <p:cNvPicPr/>
            <p:nvPr/>
          </p:nvPicPr>
          <p:blipFill>
            <a:blip r:embed="rId16"/>
            <a:stretch/>
          </p:blipFill>
          <p:spPr>
            <a:xfrm>
              <a:off x="511344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2" descr="D:\我的文档-桌面-收藏夹\桌面\1.png"/>
            <p:cNvPicPr/>
            <p:nvPr/>
          </p:nvPicPr>
          <p:blipFill>
            <a:blip r:embed="rId17"/>
            <a:stretch/>
          </p:blipFill>
          <p:spPr>
            <a:xfrm>
              <a:off x="600948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2" descr="D:\我的文档-桌面-收藏夹\桌面\1.png"/>
            <p:cNvPicPr/>
            <p:nvPr/>
          </p:nvPicPr>
          <p:blipFill>
            <a:blip r:embed="rId18"/>
            <a:stretch/>
          </p:blipFill>
          <p:spPr>
            <a:xfrm>
              <a:off x="6989760" y="1741680"/>
              <a:ext cx="97920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TextBox 17"/>
          <p:cNvSpPr/>
          <p:nvPr/>
        </p:nvSpPr>
        <p:spPr>
          <a:xfrm>
            <a:off x="2500200" y="3068640"/>
            <a:ext cx="364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+0+0+0+0+0+0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8"/>
          <p:cNvSpPr/>
          <p:nvPr/>
        </p:nvSpPr>
        <p:spPr>
          <a:xfrm>
            <a:off x="2500200" y="3639960"/>
            <a:ext cx="2071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×7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19"/>
          <p:cNvSpPr/>
          <p:nvPr/>
        </p:nvSpPr>
        <p:spPr>
          <a:xfrm>
            <a:off x="5143680" y="3639960"/>
            <a:ext cx="2071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0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7"/>
          <p:cNvGrpSpPr/>
          <p:nvPr/>
        </p:nvGrpSpPr>
        <p:grpSpPr>
          <a:xfrm>
            <a:off x="1000080" y="4282920"/>
            <a:ext cx="8143920" cy="857520"/>
            <a:chOff x="1000080" y="4282920"/>
            <a:chExt cx="8143920" cy="857520"/>
          </a:xfrm>
        </p:grpSpPr>
        <p:sp>
          <p:nvSpPr>
            <p:cNvPr id="1047" name="TextBox 20"/>
            <p:cNvSpPr/>
            <p:nvPr/>
          </p:nvSpPr>
          <p:spPr>
            <a:xfrm>
              <a:off x="1000080" y="4282920"/>
              <a:ext cx="8143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想一想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×3=         9×0=         0×0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21"/>
            <p:cNvSpPr/>
            <p:nvPr/>
          </p:nvSpPr>
          <p:spPr>
            <a:xfrm>
              <a:off x="207144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22"/>
            <p:cNvSpPr/>
            <p:nvPr/>
          </p:nvSpPr>
          <p:spPr>
            <a:xfrm>
              <a:off x="428616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23"/>
            <p:cNvSpPr/>
            <p:nvPr/>
          </p:nvSpPr>
          <p:spPr>
            <a:xfrm>
              <a:off x="657216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TextBox 24"/>
          <p:cNvSpPr/>
          <p:nvPr/>
        </p:nvSpPr>
        <p:spPr>
          <a:xfrm>
            <a:off x="2143080" y="4592520"/>
            <a:ext cx="2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5"/>
          <p:cNvSpPr/>
          <p:nvPr/>
        </p:nvSpPr>
        <p:spPr>
          <a:xfrm>
            <a:off x="4357800" y="4592520"/>
            <a:ext cx="28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6"/>
          <p:cNvSpPr/>
          <p:nvPr/>
        </p:nvSpPr>
        <p:spPr>
          <a:xfrm>
            <a:off x="6643800" y="4592520"/>
            <a:ext cx="28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八边形 2"/>
          <p:cNvSpPr/>
          <p:nvPr/>
        </p:nvSpPr>
        <p:spPr>
          <a:xfrm>
            <a:off x="365040" y="97488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8"/>
          <p:cNvGrpSpPr/>
          <p:nvPr/>
        </p:nvGrpSpPr>
        <p:grpSpPr>
          <a:xfrm>
            <a:off x="2203560" y="2279520"/>
            <a:ext cx="5498640" cy="943200"/>
            <a:chOff x="2203560" y="2279520"/>
            <a:chExt cx="5498640" cy="943200"/>
          </a:xfrm>
        </p:grpSpPr>
        <p:sp>
          <p:nvSpPr>
            <p:cNvPr id="1056" name="AutoShape 27"/>
            <p:cNvSpPr/>
            <p:nvPr/>
          </p:nvSpPr>
          <p:spPr>
            <a:xfrm>
              <a:off x="2203560" y="2342880"/>
              <a:ext cx="4237560" cy="542160"/>
            </a:xfrm>
            <a:prstGeom prst="wedgeRoundRectCallout">
              <a:avLst>
                <a:gd name="adj1" fmla="val 57601"/>
                <a:gd name="adj2" fmla="val 19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盘子里一共还有多少个桃子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4" descr="6)5][}VZ%@FXJ)FA]TI76$O"/>
            <p:cNvPicPr/>
            <p:nvPr/>
          </p:nvPicPr>
          <p:blipFill>
            <a:blip r:embed="rId19"/>
            <a:stretch/>
          </p:blipFill>
          <p:spPr>
            <a:xfrm>
              <a:off x="6817320" y="2279520"/>
              <a:ext cx="884880" cy="9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9"/>
          <p:cNvGrpSpPr/>
          <p:nvPr/>
        </p:nvGrpSpPr>
        <p:grpSpPr>
          <a:xfrm>
            <a:off x="2203560" y="5337000"/>
            <a:ext cx="4368600" cy="727200"/>
            <a:chOff x="2203560" y="5337000"/>
            <a:chExt cx="4368600" cy="727200"/>
          </a:xfrm>
        </p:grpSpPr>
        <p:sp>
          <p:nvSpPr>
            <p:cNvPr id="1059" name="AutoShape 27"/>
            <p:cNvSpPr/>
            <p:nvPr/>
          </p:nvSpPr>
          <p:spPr>
            <a:xfrm>
              <a:off x="3143160" y="5414760"/>
              <a:ext cx="3429000" cy="571320"/>
            </a:xfrm>
            <a:prstGeom prst="wedgeRoundRectCallout">
              <a:avLst>
                <a:gd name="adj1" fmla="val -56537"/>
                <a:gd name="adj2" fmla="val -2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任何数相乘都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6" descr="6)5][}VZ%@FXJ)FA]TI76$O"/>
            <p:cNvPicPr/>
            <p:nvPr/>
          </p:nvPicPr>
          <p:blipFill>
            <a:blip r:embed="rId20"/>
            <a:stretch/>
          </p:blipFill>
          <p:spPr>
            <a:xfrm>
              <a:off x="2203560" y="5337000"/>
              <a:ext cx="68256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3" name="TextBox 2"/>
          <p:cNvSpPr/>
          <p:nvPr/>
        </p:nvSpPr>
        <p:spPr>
          <a:xfrm>
            <a:off x="441360" y="793800"/>
            <a:ext cx="8531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场的看台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区，每个区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座位。运动场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多少个座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701720" y="1984320"/>
            <a:ext cx="322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3146400" y="1890720"/>
            <a:ext cx="177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3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15" descr="u6jx06_9"/>
          <p:cNvPicPr/>
          <p:nvPr/>
        </p:nvPicPr>
        <p:blipFill>
          <a:blip r:embed="rId8"/>
          <a:stretch/>
        </p:blipFill>
        <p:spPr>
          <a:xfrm>
            <a:off x="6130800" y="1604880"/>
            <a:ext cx="2660760" cy="1995480"/>
          </a:xfrm>
          <a:prstGeom prst="rect">
            <a:avLst/>
          </a:prstGeom>
          <a:ln w="0">
            <a:noFill/>
          </a:ln>
        </p:spPr>
      </p:pic>
      <p:sp>
        <p:nvSpPr>
          <p:cNvPr id="1077" name="Text Box 138"/>
          <p:cNvSpPr/>
          <p:nvPr/>
        </p:nvSpPr>
        <p:spPr>
          <a:xfrm>
            <a:off x="3273480" y="4537080"/>
            <a:ext cx="357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6"/>
          <p:cNvGrpSpPr/>
          <p:nvPr/>
        </p:nvGrpSpPr>
        <p:grpSpPr>
          <a:xfrm>
            <a:off x="1773360" y="4033800"/>
            <a:ext cx="2357280" cy="1357200"/>
            <a:chOff x="1773360" y="4033800"/>
            <a:chExt cx="2357280" cy="1357200"/>
          </a:xfrm>
        </p:grpSpPr>
        <p:grpSp>
          <p:nvGrpSpPr>
            <p:cNvPr id="1079" name="Group 133"/>
            <p:cNvGrpSpPr/>
            <p:nvPr/>
          </p:nvGrpSpPr>
          <p:grpSpPr>
            <a:xfrm>
              <a:off x="1954080" y="4033800"/>
              <a:ext cx="2176560" cy="1194120"/>
              <a:chOff x="1954080" y="4033800"/>
              <a:chExt cx="2176560" cy="1194120"/>
            </a:xfrm>
          </p:grpSpPr>
          <p:sp>
            <p:nvSpPr>
              <p:cNvPr id="1080" name="Text Box 134"/>
              <p:cNvSpPr/>
              <p:nvPr/>
            </p:nvSpPr>
            <p:spPr>
              <a:xfrm>
                <a:off x="3409920" y="4753080"/>
                <a:ext cx="323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135"/>
              <p:cNvSpPr/>
              <p:nvPr/>
            </p:nvSpPr>
            <p:spPr>
              <a:xfrm>
                <a:off x="2439720" y="4033800"/>
                <a:ext cx="1470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6  0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136"/>
              <p:cNvSpPr/>
              <p:nvPr/>
            </p:nvSpPr>
            <p:spPr>
              <a:xfrm>
                <a:off x="1981080" y="4413240"/>
                <a:ext cx="21495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×     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954080" y="4819680"/>
                <a:ext cx="1884240" cy="7920"/>
                <a:chOff x="1954080" y="4819680"/>
                <a:chExt cx="1884240" cy="7920"/>
              </a:xfrm>
            </p:grpSpPr>
            <p:sp>
              <p:nvSpPr>
                <p:cNvPr id="1084" name="Line 137"/>
                <p:cNvSpPr/>
                <p:nvPr/>
              </p:nvSpPr>
              <p:spPr>
                <a:xfrm flipV="1">
                  <a:off x="1954080" y="4819680"/>
                  <a:ext cx="1884240" cy="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 rot="10800000">
                  <a:off x="1954080" y="4819680"/>
                  <a:ext cx="1884240" cy="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6" name="矩形 13"/>
            <p:cNvSpPr/>
            <p:nvPr/>
          </p:nvSpPr>
          <p:spPr>
            <a:xfrm>
              <a:off x="234468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矩形 14"/>
            <p:cNvSpPr/>
            <p:nvPr/>
          </p:nvSpPr>
          <p:spPr>
            <a:xfrm>
              <a:off x="291636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15"/>
            <p:cNvSpPr/>
            <p:nvPr/>
          </p:nvSpPr>
          <p:spPr>
            <a:xfrm>
              <a:off x="177336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51"/>
          <p:cNvSpPr/>
          <p:nvPr/>
        </p:nvSpPr>
        <p:spPr>
          <a:xfrm>
            <a:off x="1916280" y="489096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  8  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1"/>
          <p:cNvSpPr/>
          <p:nvPr/>
        </p:nvSpPr>
        <p:spPr>
          <a:xfrm>
            <a:off x="1558800" y="5629320"/>
            <a:ext cx="757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030a0"/>
                </a:solidFill>
                <a:latin typeface="宋体"/>
                <a:ea typeface="宋体"/>
              </a:rPr>
              <a:t>想：十位上写几？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×8=0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加进上来的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八边形 2"/>
          <p:cNvSpPr/>
          <p:nvPr/>
        </p:nvSpPr>
        <p:spPr>
          <a:xfrm>
            <a:off x="179280" y="7938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组合 3"/>
          <p:cNvGrpSpPr/>
          <p:nvPr/>
        </p:nvGrpSpPr>
        <p:grpSpPr>
          <a:xfrm>
            <a:off x="673200" y="2890800"/>
            <a:ext cx="3965400" cy="1009800"/>
            <a:chOff x="673200" y="2890800"/>
            <a:chExt cx="3965400" cy="1009800"/>
          </a:xfrm>
        </p:grpSpPr>
        <p:sp>
          <p:nvSpPr>
            <p:cNvPr id="1093" name="AutoShape 27"/>
            <p:cNvSpPr/>
            <p:nvPr/>
          </p:nvSpPr>
          <p:spPr>
            <a:xfrm>
              <a:off x="1780560" y="2890800"/>
              <a:ext cx="2858040" cy="92808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=48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应该比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8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多一些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图片 4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73200" y="2957400"/>
              <a:ext cx="885240" cy="9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5" name="组合 8"/>
          <p:cNvGrpSpPr/>
          <p:nvPr/>
        </p:nvGrpSpPr>
        <p:grpSpPr>
          <a:xfrm>
            <a:off x="5059440" y="4390920"/>
            <a:ext cx="3141360" cy="999720"/>
            <a:chOff x="5059440" y="4390920"/>
            <a:chExt cx="3141360" cy="999720"/>
          </a:xfrm>
        </p:grpSpPr>
        <p:sp>
          <p:nvSpPr>
            <p:cNvPr id="1096" name="AutoShape 27"/>
            <p:cNvSpPr/>
            <p:nvPr/>
          </p:nvSpPr>
          <p:spPr>
            <a:xfrm>
              <a:off x="5059440" y="4390920"/>
              <a:ext cx="2215080" cy="77652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哇！原来有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么多座位呀！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7" name="图片 6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7518240" y="4663080"/>
              <a:ext cx="682560" cy="727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2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文本框 2"/>
          <p:cNvSpPr/>
          <p:nvPr/>
        </p:nvSpPr>
        <p:spPr>
          <a:xfrm>
            <a:off x="2143080" y="762120"/>
            <a:ext cx="39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个因数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"/>
          <p:cNvSpPr/>
          <p:nvPr/>
        </p:nvSpPr>
        <p:spPr>
          <a:xfrm>
            <a:off x="739800" y="1279440"/>
            <a:ext cx="34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任何数相乘都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4"/>
          <p:cNvSpPr/>
          <p:nvPr/>
        </p:nvSpPr>
        <p:spPr>
          <a:xfrm>
            <a:off x="2227320" y="2101680"/>
            <a:ext cx="43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个因数中间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6"/>
          <p:cNvSpPr/>
          <p:nvPr/>
        </p:nvSpPr>
        <p:spPr>
          <a:xfrm>
            <a:off x="533520" y="2619360"/>
            <a:ext cx="71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笔算一个因数中间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乘法，从个位起，用一位数依次去乘多位数每一位上的数，乘到哪一位，积就写在那一位下面。（注意：因数中间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一位数相乘时，要在积的十位上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，如果有进上来的数必须加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4"/>
          <p:cNvSpPr/>
          <p:nvPr/>
        </p:nvSpPr>
        <p:spPr>
          <a:xfrm>
            <a:off x="179280" y="1111320"/>
            <a:ext cx="84297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×2=       5×0=        0×6=        0×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×0=       5+0=        6×0=        0+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13"/>
          <p:cNvSpPr/>
          <p:nvPr/>
        </p:nvSpPr>
        <p:spPr>
          <a:xfrm>
            <a:off x="1940040" y="19368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14"/>
          <p:cNvSpPr/>
          <p:nvPr/>
        </p:nvSpPr>
        <p:spPr>
          <a:xfrm>
            <a:off x="4046400" y="186048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5"/>
          <p:cNvSpPr/>
          <p:nvPr/>
        </p:nvSpPr>
        <p:spPr>
          <a:xfrm>
            <a:off x="6278400" y="270972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6"/>
          <p:cNvSpPr/>
          <p:nvPr/>
        </p:nvSpPr>
        <p:spPr>
          <a:xfrm>
            <a:off x="8494560" y="186048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17"/>
          <p:cNvSpPr/>
          <p:nvPr/>
        </p:nvSpPr>
        <p:spPr>
          <a:xfrm>
            <a:off x="2043000" y="281304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19"/>
          <p:cNvSpPr/>
          <p:nvPr/>
        </p:nvSpPr>
        <p:spPr>
          <a:xfrm>
            <a:off x="6170760" y="1863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0"/>
          <p:cNvSpPr/>
          <p:nvPr/>
        </p:nvSpPr>
        <p:spPr>
          <a:xfrm>
            <a:off x="8494560" y="2709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2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3" name="TextBox 17"/>
          <p:cNvSpPr/>
          <p:nvPr/>
        </p:nvSpPr>
        <p:spPr>
          <a:xfrm>
            <a:off x="3762360" y="2711520"/>
            <a:ext cx="36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组合 21"/>
          <p:cNvGrpSpPr/>
          <p:nvPr/>
        </p:nvGrpSpPr>
        <p:grpSpPr>
          <a:xfrm>
            <a:off x="181080" y="1333440"/>
            <a:ext cx="8429400" cy="2148120"/>
            <a:chOff x="181080" y="1333440"/>
            <a:chExt cx="8429400" cy="2148120"/>
          </a:xfrm>
        </p:grpSpPr>
        <p:sp>
          <p:nvSpPr>
            <p:cNvPr id="1135" name="TextBox 5"/>
            <p:cNvSpPr/>
            <p:nvPr/>
          </p:nvSpPr>
          <p:spPr>
            <a:xfrm>
              <a:off x="181080" y="1333440"/>
              <a:ext cx="84294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    里填上适当的符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   0=0       0    4=4       0    4=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    7=0       10    0=0      0    0=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椭圆 6"/>
            <p:cNvSpPr/>
            <p:nvPr/>
          </p:nvSpPr>
          <p:spPr>
            <a:xfrm>
              <a:off x="1038240" y="2087640"/>
              <a:ext cx="392400" cy="507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椭圆 7"/>
            <p:cNvSpPr/>
            <p:nvPr/>
          </p:nvSpPr>
          <p:spPr>
            <a:xfrm>
              <a:off x="3426480" y="2138400"/>
              <a:ext cx="432360" cy="49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椭圆 8"/>
            <p:cNvSpPr/>
            <p:nvPr/>
          </p:nvSpPr>
          <p:spPr>
            <a:xfrm>
              <a:off x="5794560" y="2159280"/>
              <a:ext cx="443520" cy="53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椭圆 9"/>
            <p:cNvSpPr/>
            <p:nvPr/>
          </p:nvSpPr>
          <p:spPr>
            <a:xfrm>
              <a:off x="1000800" y="2866680"/>
              <a:ext cx="475560" cy="579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椭圆 10"/>
            <p:cNvSpPr/>
            <p:nvPr/>
          </p:nvSpPr>
          <p:spPr>
            <a:xfrm>
              <a:off x="3550320" y="2930760"/>
              <a:ext cx="509760" cy="55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椭圆 11"/>
            <p:cNvSpPr/>
            <p:nvPr/>
          </p:nvSpPr>
          <p:spPr>
            <a:xfrm>
              <a:off x="5722560" y="2892600"/>
              <a:ext cx="481680" cy="52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椭圆 12"/>
            <p:cNvSpPr/>
            <p:nvPr/>
          </p:nvSpPr>
          <p:spPr>
            <a:xfrm>
              <a:off x="1170720" y="1371240"/>
              <a:ext cx="439200" cy="53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Box 22"/>
          <p:cNvSpPr/>
          <p:nvPr/>
        </p:nvSpPr>
        <p:spPr>
          <a:xfrm>
            <a:off x="982800" y="21178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23"/>
          <p:cNvSpPr/>
          <p:nvPr/>
        </p:nvSpPr>
        <p:spPr>
          <a:xfrm>
            <a:off x="3463920" y="21891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24"/>
          <p:cNvSpPr/>
          <p:nvPr/>
        </p:nvSpPr>
        <p:spPr>
          <a:xfrm>
            <a:off x="5765760" y="21891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25"/>
          <p:cNvSpPr/>
          <p:nvPr/>
        </p:nvSpPr>
        <p:spPr>
          <a:xfrm>
            <a:off x="1055520" y="291780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26"/>
          <p:cNvSpPr/>
          <p:nvPr/>
        </p:nvSpPr>
        <p:spPr>
          <a:xfrm>
            <a:off x="3554280" y="296856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27"/>
          <p:cNvSpPr/>
          <p:nvPr/>
        </p:nvSpPr>
        <p:spPr>
          <a:xfrm>
            <a:off x="5711760" y="28926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30"/>
          <p:cNvSpPr/>
          <p:nvPr/>
        </p:nvSpPr>
        <p:spPr>
          <a:xfrm>
            <a:off x="4753080" y="2930400"/>
            <a:ext cx="3857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最后一题答案不唯一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5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组合 2"/>
          <p:cNvGrpSpPr/>
          <p:nvPr/>
        </p:nvGrpSpPr>
        <p:grpSpPr>
          <a:xfrm>
            <a:off x="-36360" y="117360"/>
            <a:ext cx="3244680" cy="525600"/>
            <a:chOff x="-36360" y="117360"/>
            <a:chExt cx="3244680" cy="525600"/>
          </a:xfrm>
        </p:grpSpPr>
        <p:pic>
          <p:nvPicPr>
            <p:cNvPr id="116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14120" y="117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-36360" y="213120"/>
              <a:ext cx="429840" cy="271800"/>
              <a:chOff x="-36360" y="213120"/>
              <a:chExt cx="429840" cy="271800"/>
            </a:xfrm>
          </p:grpSpPr>
          <p:sp>
            <p:nvSpPr>
              <p:cNvPr id="1164" name="椭圆 2"/>
              <p:cNvSpPr/>
              <p:nvPr/>
            </p:nvSpPr>
            <p:spPr>
              <a:xfrm rot="16200000">
                <a:off x="206640" y="375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1800" y="339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06640" y="249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800" y="227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36360" y="355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27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36360" y="240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36360" y="213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TextBox 2"/>
          <p:cNvSpPr/>
          <p:nvPr/>
        </p:nvSpPr>
        <p:spPr>
          <a:xfrm>
            <a:off x="142920" y="797040"/>
            <a:ext cx="507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乘得的积填在下面的空格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388800" y="1657440"/>
          <a:ext cx="7572240" cy="257184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1080"/>
                <a:gridCol w="1082880"/>
                <a:gridCol w="1081080"/>
                <a:gridCol w="1082520"/>
                <a:gridCol w="1081080"/>
              </a:tblGrid>
              <a:tr h="1285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4" name="TextBox 6"/>
          <p:cNvSpPr/>
          <p:nvPr/>
        </p:nvSpPr>
        <p:spPr>
          <a:xfrm>
            <a:off x="1643040" y="33544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7"/>
          <p:cNvSpPr/>
          <p:nvPr/>
        </p:nvSpPr>
        <p:spPr>
          <a:xfrm>
            <a:off x="2786040" y="33544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8"/>
          <p:cNvSpPr/>
          <p:nvPr/>
        </p:nvSpPr>
        <p:spPr>
          <a:xfrm>
            <a:off x="3857760" y="335448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9"/>
          <p:cNvSpPr/>
          <p:nvPr/>
        </p:nvSpPr>
        <p:spPr>
          <a:xfrm>
            <a:off x="4857840" y="335448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10"/>
          <p:cNvSpPr/>
          <p:nvPr/>
        </p:nvSpPr>
        <p:spPr>
          <a:xfrm>
            <a:off x="5929200" y="33544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8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11"/>
          <p:cNvSpPr/>
          <p:nvPr/>
        </p:nvSpPr>
        <p:spPr>
          <a:xfrm>
            <a:off x="7000920" y="335448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6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2" name="文本框 99"/>
          <p:cNvSpPr/>
          <p:nvPr/>
        </p:nvSpPr>
        <p:spPr>
          <a:xfrm>
            <a:off x="279360" y="725400"/>
            <a:ext cx="85615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9×4=        605×7=           203×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9×3=        403×6=           508×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24"/>
          <p:cNvGrpSpPr/>
          <p:nvPr/>
        </p:nvGrpSpPr>
        <p:grpSpPr>
          <a:xfrm>
            <a:off x="179280" y="2301840"/>
            <a:ext cx="2436840" cy="1767600"/>
            <a:chOff x="179280" y="2301840"/>
            <a:chExt cx="2436840" cy="1767600"/>
          </a:xfrm>
        </p:grpSpPr>
        <p:sp>
          <p:nvSpPr>
            <p:cNvPr id="1194" name="文本框 11"/>
            <p:cNvSpPr/>
            <p:nvPr/>
          </p:nvSpPr>
          <p:spPr>
            <a:xfrm>
              <a:off x="179280" y="23018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直接连接符 12"/>
            <p:cNvSpPr/>
            <p:nvPr/>
          </p:nvSpPr>
          <p:spPr>
            <a:xfrm>
              <a:off x="366480" y="31831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文本框 13"/>
            <p:cNvSpPr/>
            <p:nvPr/>
          </p:nvSpPr>
          <p:spPr>
            <a:xfrm>
              <a:off x="452880" y="3183120"/>
              <a:ext cx="1575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8 3  6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2"/>
          <p:cNvGrpSpPr/>
          <p:nvPr/>
        </p:nvGrpSpPr>
        <p:grpSpPr>
          <a:xfrm>
            <a:off x="2616120" y="2301840"/>
            <a:ext cx="2435400" cy="1767600"/>
            <a:chOff x="2616120" y="2301840"/>
            <a:chExt cx="2435400" cy="1767600"/>
          </a:xfrm>
        </p:grpSpPr>
        <p:sp>
          <p:nvSpPr>
            <p:cNvPr id="1198" name="文本框 11"/>
            <p:cNvSpPr/>
            <p:nvPr/>
          </p:nvSpPr>
          <p:spPr>
            <a:xfrm>
              <a:off x="2616120" y="230184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0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直接连接符 4"/>
            <p:cNvSpPr/>
            <p:nvPr/>
          </p:nvSpPr>
          <p:spPr>
            <a:xfrm>
              <a:off x="2803320" y="318312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文本框 13"/>
            <p:cNvSpPr/>
            <p:nvPr/>
          </p:nvSpPr>
          <p:spPr>
            <a:xfrm>
              <a:off x="2889720" y="3183120"/>
              <a:ext cx="1574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 2 3  5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8"/>
          <p:cNvGrpSpPr/>
          <p:nvPr/>
        </p:nvGrpSpPr>
        <p:grpSpPr>
          <a:xfrm>
            <a:off x="5854680" y="2197080"/>
            <a:ext cx="2435400" cy="1401840"/>
            <a:chOff x="5854680" y="2197080"/>
            <a:chExt cx="2435400" cy="1401840"/>
          </a:xfrm>
        </p:grpSpPr>
        <p:sp>
          <p:nvSpPr>
            <p:cNvPr id="1202" name="文本框 11"/>
            <p:cNvSpPr/>
            <p:nvPr/>
          </p:nvSpPr>
          <p:spPr>
            <a:xfrm>
              <a:off x="5854680" y="219708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直接连接符 10"/>
            <p:cNvSpPr/>
            <p:nvPr/>
          </p:nvSpPr>
          <p:spPr>
            <a:xfrm>
              <a:off x="6041880" y="307836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文本框 13"/>
            <p:cNvSpPr/>
            <p:nvPr/>
          </p:nvSpPr>
          <p:spPr>
            <a:xfrm>
              <a:off x="6128280" y="3078360"/>
              <a:ext cx="15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 0 9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组合 13"/>
          <p:cNvGrpSpPr/>
          <p:nvPr/>
        </p:nvGrpSpPr>
        <p:grpSpPr>
          <a:xfrm>
            <a:off x="179280" y="4265640"/>
            <a:ext cx="2436840" cy="1401840"/>
            <a:chOff x="179280" y="4265640"/>
            <a:chExt cx="2436840" cy="1401840"/>
          </a:xfrm>
        </p:grpSpPr>
        <p:sp>
          <p:nvSpPr>
            <p:cNvPr id="1206" name="文本框 11"/>
            <p:cNvSpPr/>
            <p:nvPr/>
          </p:nvSpPr>
          <p:spPr>
            <a:xfrm>
              <a:off x="179280" y="42656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5 0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直接连接符 15"/>
            <p:cNvSpPr/>
            <p:nvPr/>
          </p:nvSpPr>
          <p:spPr>
            <a:xfrm>
              <a:off x="366480" y="51469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文本框 13"/>
            <p:cNvSpPr/>
            <p:nvPr/>
          </p:nvSpPr>
          <p:spPr>
            <a:xfrm>
              <a:off x="452880" y="5146920"/>
              <a:ext cx="15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1  5 2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组合 17"/>
          <p:cNvGrpSpPr/>
          <p:nvPr/>
        </p:nvGrpSpPr>
        <p:grpSpPr>
          <a:xfrm>
            <a:off x="2705040" y="4265640"/>
            <a:ext cx="2436840" cy="1767600"/>
            <a:chOff x="2705040" y="4265640"/>
            <a:chExt cx="2436840" cy="1767600"/>
          </a:xfrm>
        </p:grpSpPr>
        <p:sp>
          <p:nvSpPr>
            <p:cNvPr id="1210" name="文本框 11"/>
            <p:cNvSpPr/>
            <p:nvPr/>
          </p:nvSpPr>
          <p:spPr>
            <a:xfrm>
              <a:off x="2705040" y="42656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 0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直接连接符 19"/>
            <p:cNvSpPr/>
            <p:nvPr/>
          </p:nvSpPr>
          <p:spPr>
            <a:xfrm>
              <a:off x="2879640" y="51469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文本框 13"/>
            <p:cNvSpPr/>
            <p:nvPr/>
          </p:nvSpPr>
          <p:spPr>
            <a:xfrm>
              <a:off x="2966040" y="5146920"/>
              <a:ext cx="1575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4 1 8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21"/>
          <p:cNvGrpSpPr/>
          <p:nvPr/>
        </p:nvGrpSpPr>
        <p:grpSpPr>
          <a:xfrm>
            <a:off x="5854680" y="4265640"/>
            <a:ext cx="2435400" cy="1767600"/>
            <a:chOff x="5854680" y="4265640"/>
            <a:chExt cx="2435400" cy="1767600"/>
          </a:xfrm>
        </p:grpSpPr>
        <p:sp>
          <p:nvSpPr>
            <p:cNvPr id="1214" name="文本框 11"/>
            <p:cNvSpPr/>
            <p:nvPr/>
          </p:nvSpPr>
          <p:spPr>
            <a:xfrm>
              <a:off x="5854680" y="426564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5 0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直接连接符 23"/>
            <p:cNvSpPr/>
            <p:nvPr/>
          </p:nvSpPr>
          <p:spPr>
            <a:xfrm>
              <a:off x="6041880" y="514692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文本框 13"/>
            <p:cNvSpPr/>
            <p:nvPr/>
          </p:nvSpPr>
          <p:spPr>
            <a:xfrm>
              <a:off x="6128280" y="5146920"/>
              <a:ext cx="1574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3 2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文本框 15"/>
          <p:cNvSpPr/>
          <p:nvPr/>
        </p:nvSpPr>
        <p:spPr>
          <a:xfrm>
            <a:off x="1839960" y="1584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8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5"/>
          <p:cNvSpPr/>
          <p:nvPr/>
        </p:nvSpPr>
        <p:spPr>
          <a:xfrm>
            <a:off x="4464000" y="15843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4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5"/>
          <p:cNvSpPr/>
          <p:nvPr/>
        </p:nvSpPr>
        <p:spPr>
          <a:xfrm>
            <a:off x="7578720" y="15843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5"/>
          <p:cNvSpPr/>
          <p:nvPr/>
        </p:nvSpPr>
        <p:spPr>
          <a:xfrm>
            <a:off x="1681200" y="3701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5"/>
          <p:cNvSpPr/>
          <p:nvPr/>
        </p:nvSpPr>
        <p:spPr>
          <a:xfrm>
            <a:off x="4346640" y="370188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4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5"/>
          <p:cNvSpPr/>
          <p:nvPr/>
        </p:nvSpPr>
        <p:spPr>
          <a:xfrm>
            <a:off x="7578720" y="3701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5:1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